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786-C1AA-4C8E-961F-51AC027B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ACA-2F58-4676-879F-5EAFDE32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1B9-9DC9-4985-BCEB-6D451BD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D0F-C5F8-420B-AFAB-840123D6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BEA-AD3C-4665-8641-3A7E6C7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8BC-2A83-41EE-B64A-42BCE990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66E-6316-46CA-968D-6885D31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0CD-1429-4BA5-9D4E-856530E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6CC-78BB-425B-8ED9-D8CFEE91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D1F-1677-4D6A-81BF-C261B9F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D00-0B3C-41FB-8833-74E9FED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E16-5203-48EE-9CD5-9CDFC21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5770-834C-4761-B272-341DAFF1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ernard MT Condensed"/>
              </a:rPr>
              <a:t>My Insect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6095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pider an insect?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Do every ladybird have red body and black spots?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What are the three main body parts that an insect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Do all spiders spin web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Do all insect live on lan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8960" y="41911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x  abdomen and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4648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3280" y="5257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ileen.wu</cp:lastModifiedBy>
  <dcterms:modified xsi:type="dcterms:W3CDTF">2009-06-19T00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